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BCDB-6333-4C0D-AA12-5A949CE814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F6A9-0823-4E1C-B23B-77C17AFA4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F230A-BA7B-492F-88BA-D63078993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BCA30-45EC-43EB-9A68-5772485E9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F9225-1A58-4442-9D12-0AD6FFC3C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01400-E088-4A29-9D10-E86B8075D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FD0D7-C265-40A2-9739-BDB8B5C8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1C383-521D-42F6-945C-1E04D2E0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13D0A-6C52-4155-9499-CA5973F9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4F56D-2AF5-4A9A-95AF-63E56897A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5B1B-BE64-452B-B242-A132B05A9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C872-F4FD-4A01-8F13-2E691FFB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8D57-1094-4D38-9C87-0095940C8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AF96-589B-43D0-A842-78BD129B9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7B98-593F-418E-A4B2-A4EBE23A7C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LaurE\Desktop\New folder (5)\japan-earthquake3.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2286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utremur devastator in Japonia</a:t>
            </a:r>
            <a:br>
              <a:rPr sz="4000"/>
            </a:br>
            <a:endParaRPr b="0" lang="en-US" sz="4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LaurE\Desktop\New folder (5)\Japanese-Tsunami-and-Earthquake.jpg"/>
          <p:cNvPicPr/>
          <p:nvPr/>
        </p:nvPicPr>
        <p:blipFill>
          <a:blip r:embed="rId1"/>
          <a:stretch/>
        </p:blipFill>
        <p:spPr>
          <a:xfrm>
            <a:off x="0" y="0"/>
            <a:ext cx="9250200" cy="6858000"/>
          </a:xfrm>
          <a:prstGeom prst="rect">
            <a:avLst/>
          </a:prstGeom>
          <a:ln w="0">
            <a:noFill/>
          </a:ln>
        </p:spPr>
      </p:pic>
      <p:sp>
        <p:nvSpPr>
          <p:cNvPr id="51" name="PlaceHolder 1"/>
          <p:cNvSpPr>
            <a:spLocks noGrp="1"/>
          </p:cNvSpPr>
          <p:nvPr>
            <p:ph type="title"/>
          </p:nvPr>
        </p:nvSpPr>
        <p:spPr>
          <a:xfrm>
            <a:off x="4419360" y="175212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4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japan_032399922e"/>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580920" y="259056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2000"/>
            </a:br>
            <a:endParaRPr b="0" lang="en-US" sz="2000" spc="-1" strike="noStrike">
              <a:solidFill>
                <a:srgbClr val="000000"/>
              </a:solidFill>
              <a:latin typeface="Calibri"/>
            </a:endParaRPr>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japonia-cutremur-3-afp"/>
          <p:cNvPicPr/>
          <p:nvPr/>
        </p:nvPicPr>
        <p:blipFill>
          <a:blip r:embed="rId1"/>
          <a:stretch/>
        </p:blipFill>
        <p:spPr>
          <a:xfrm>
            <a:off x="0" y="0"/>
            <a:ext cx="9144000" cy="6858000"/>
          </a:xfrm>
          <a:prstGeom prst="rect">
            <a:avLst/>
          </a:prstGeom>
          <a:ln w="0">
            <a:noFill/>
          </a:ln>
        </p:spPr>
      </p:pic>
      <p:sp>
        <p:nvSpPr>
          <p:cNvPr id="55" name="Rectangle 5"/>
          <p:cNvSpPr/>
          <p:nvPr/>
        </p:nvSpPr>
        <p:spPr>
          <a:xfrm>
            <a:off x="3505320" y="685800"/>
            <a:ext cx="5257800" cy="5715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ilanţ provizoriu: 1.000 de morţi</a:t>
            </a:r>
            <a:br>
              <a:rPr sz="1900"/>
            </a:br>
            <a:r>
              <a:rPr b="1" lang="en-US" sz="1900" spc="-1" strike="noStrike">
                <a:solidFill>
                  <a:srgbClr val="ffffff"/>
                </a:solidFill>
                <a:latin typeface="Calibri"/>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900"/>
            </a:br>
            <a:r>
              <a:rPr b="1" lang="en-US" sz="1900" spc="-1" strike="noStrike">
                <a:solidFill>
                  <a:srgbClr val="ffffff"/>
                </a:solidFill>
                <a:latin typeface="Calibri"/>
              </a:rPr>
              <a:t>Intensitatea seismului din Oceanul Pacific a ieşit din scara Richter</a:t>
            </a:r>
            <a:br>
              <a:rPr sz="1900"/>
            </a:br>
            <a:r>
              <a:rPr b="1" lang="en-US" sz="1900" spc="-1" strike="noStrike">
                <a:solidFill>
                  <a:srgbClr val="ffffff"/>
                </a:solidFill>
                <a:latin typeface="Calibri"/>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r>
              <a:rPr b="1" lang="en-US" sz="1500" spc="-1" strike="noStrike">
                <a:solidFill>
                  <a:srgbClr val="ffffff"/>
                </a:solidFill>
                <a:latin typeface="Calibri"/>
              </a:rPr>
              <a:t>.</a:t>
            </a:r>
            <a:endParaRPr b="0" lang="en-US" sz="1500" spc="-1" strike="noStrike">
              <a:solidFill>
                <a:srgbClr val="000000"/>
              </a:solidFill>
              <a:latin typeface="Calibri"/>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C:\Users\LaurE\Desktop\New folder (5)\japan-nuclear-meltdown.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648320" y="388584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Zeci de mii de oameni evacuati, ​explozii zilnice la reactoarele nucleare de la Centrala Fukushima, localnici si muncitori iradiati. Acesta este tabloul dezastrului produs in nord-estul Japoniei, unde instalatiile unei centrale nucleare vechi de 40 de ani au fost grav afectate de cutremurul si tsunami-ul produse vineri, 11 martie.</a:t>
            </a:r>
            <a:endParaRPr b="0" lang="en-US" sz="24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1:24:00Z</dcterms:created>
  <dc:creator>LaurE</dc:creator>
  <dc:description/>
  <dc:language>en-US</dc:language>
  <cp:lastModifiedBy>LaurE</cp:lastModifiedBy>
  <dcterms:modified xsi:type="dcterms:W3CDTF">2011-06-08T21:57:35Z</dcterms:modified>
  <cp:revision>4</cp:revision>
  <dc:subject/>
  <dc:title>JAPONIA Cutremur devas</dc:title>
</cp:coreProperties>
</file>